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F5D9-5DE7-43C3-881B-C4694BEDE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1E5D-7648-4F3C-AEBA-C9E6D25F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0122-879B-480E-9EFE-AC2DD3583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EFF4-AD1E-41C7-BFE6-A9AA8D61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3EA8-223B-4121-9286-444B194D3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BF1A-FA8D-420B-A9CC-CF5117D5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78FA-DEA2-4DD9-A9B6-77F31BF8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83A4-37D0-43D0-8B46-E0380C2B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4362-D1CA-43F0-860A-4ADD40AE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E85D-3322-4AC5-BB83-F25EE677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D782-6523-4DF6-94F4-06DF9B37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BCC1-B48C-41C2-9139-FE61AEAB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C3A8-3B82-4707-A490-7CE818FC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4406-3C97-4255-974D-5FF77838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3CD9-F0CA-4B15-90C3-214BC8D6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7875-84A6-49DE-BAF6-277AAC9EC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12A0-39E5-4572-A10E-9708DB7A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04BDF-0680-4B27-B1F2-081BEC54B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CAA89-854B-4AD7-B28F-F9F2F12E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D97EC-CCEE-40C4-A04E-2B66F17C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DBE67-2343-4F0A-8605-3068A682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57716-F558-4A2B-BAF2-7CB0BC07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20D4-A38E-4C78-9498-A1B1CA4C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4D747-BC7B-4E9D-85C4-CBA4B561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265B3-53A3-4864-BA4A-842B48B8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7B05E-B351-41D0-8E82-C6F02FEB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22182-79E4-4FE4-A04A-4146C15C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EC5C0-9C73-420B-A8B4-4218E2E2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B5EF6-6F7A-40C0-A530-0DB4D5BD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90DBA-6E76-4191-8490-F85263DB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55819-69A4-4DBB-951E-9BB0C52A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8B749-DDEA-4F25-8529-E2F982FC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79A54-7C7A-4BF1-87B3-ED4A0B31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B9BB-7555-46FB-A9AE-0D9A3D0B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023FC-237E-4483-8565-90FF1FBD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D1ABB-2199-4E7E-90FB-D4CB09BC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BC539-6581-437A-AF22-C0190D07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05A92-7466-4FD6-A0E4-F32CCC19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5B37E-7E2A-4E9D-B753-36C5E6B2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BE8AE-7AD6-46F9-ABB6-898F80F6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F7DF7-FB29-4490-A2FA-AA64174C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DE6F2-C1C7-4A06-98DD-2A501872D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FABAC-A608-4D0D-A45A-FBABBC3C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3EE7C-82A4-41D7-9452-EA05B1338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C78E-3113-4CBC-A083-C8CEAA35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F3F08-5C84-4166-B61A-B18D6F7F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FFD17-2434-49B1-80FB-AB1C97CE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944D9-9934-404B-A123-D1321204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524BD-E4C2-4D57-92E2-5B974199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D20A8-2D64-41E1-B6B4-A2DC1487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3816B-5597-4B4B-9FCD-6F2F51F9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57F0C-1313-46C0-8B8A-DBABB7F3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FF45B-3E91-41BB-A9EF-C1A05153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E5B41-2206-40F5-85A2-DA5FDA51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DB13C-C7CF-4D43-B489-7D2F1B356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CC02-3A8D-4766-9230-C3903B41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A07C6-B0C5-4CCB-A88F-C89693AB4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A6B32-9B48-4CFC-A158-B26F50E2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86233-2E44-4BD5-9A1C-0964ACD9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740A9-805F-4D32-9B1D-5C7EA247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6C1AE-9E49-44E0-BA4E-A8EF1B05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96171-8885-4796-BD53-E0FE74EB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7EEFE-C0ED-412B-A4EF-C064BC2D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27A80-47F3-4D6D-A49C-11C9E2D3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E5AE3-B15B-434B-9414-4D4AEE8A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9CD90-E78C-4D55-8E6B-8AF3BADF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3406-4848-438F-8043-2B480CA0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F5A09-4EF7-4B01-923D-9207D2E1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849BA-1057-4897-88C6-51842A4CC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DF52E-D0E1-4635-87A5-422CC562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84D88-8FE7-4124-A8A3-C774C1C8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55658-D3C4-4024-876D-173B2763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3266A-6181-461C-9918-6A0E07DE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172D8-7A78-4C8C-A480-F955DDD6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D217B-6CB8-47F7-8762-1EE3C8D1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3D0ED-7E57-436F-ABA8-9B0F9EE4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173C5-417A-4AAC-B4CF-3EA816A1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8CBE-33F7-4112-A1E0-966FF9B5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0CF18-66D7-42F9-A091-3DB85955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8EC1A-7EBA-40BC-9F7A-7970FB73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64B12-07E2-45CC-A99F-57E5AF2F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B5329-CB42-489B-96D6-8AF421D4A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C53AF-2483-44CB-80EB-A76B97B6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7ADB-4D93-4C9D-A2DF-BD7D79BC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881A-4C3C-4A4B-BDE2-52C406991E9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E634-50AF-4A00-BA3B-1C6D4B68E28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7A11-4247-4FFD-8ABE-F43B483DE59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1A3B-940E-43A1-A881-B6E37294FB9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3B28-5451-4270-BA68-BFAB545311E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62CF-6156-4168-B491-D948DBC0D1D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D029-A9FD-40D1-89A5-C39533887B1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Работа группы </a:t>
            </a:r>
            <a:br>
              <a:rPr sz="4300"/>
            </a:b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«Делимость без границ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357800" y="6071760"/>
            <a:ext cx="45720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Выполнили учащиеся 9 класс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2" descr="C:\Documents and Settings\Admin\Рабочий стол\ИКТО\Рисунки\47114916-29f8-5b53-7c19-908055d813b6.jpeg"/>
          <p:cNvPicPr/>
          <p:nvPr/>
        </p:nvPicPr>
        <p:blipFill>
          <a:blip r:embed="rId1"/>
          <a:stretch/>
        </p:blipFill>
        <p:spPr>
          <a:xfrm>
            <a:off x="1357200" y="2357280"/>
            <a:ext cx="3575160" cy="36007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C:\Documents and Settings\Admin\Рабочий стол\ИКТО\Рисунки\math_clip_art_02.jpg"/>
          <p:cNvPicPr/>
          <p:nvPr/>
        </p:nvPicPr>
        <p:blipFill>
          <a:blip r:embed="rId2"/>
          <a:stretch/>
        </p:blipFill>
        <p:spPr>
          <a:xfrm rot="405600">
            <a:off x="5928840" y="2000160"/>
            <a:ext cx="295272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71720" y="274320"/>
            <a:ext cx="79293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7030a0"/>
                </a:solidFill>
                <a:latin typeface="Corbel"/>
              </a:rPr>
              <a:t>Цель работы:</a:t>
            </a:r>
            <a:br>
              <a:rPr sz="4300"/>
            </a:br>
            <a:r>
              <a:rPr b="1" lang="ru-RU" sz="2400" spc="-1" strike="noStrike">
                <a:solidFill>
                  <a:srgbClr val="572314"/>
                </a:solidFill>
                <a:latin typeface="Corbel"/>
              </a:rPr>
              <a:t>Ответить на вопрос, «Применение метода математической индукции: нужно оно нам или нет?»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142640" y="2428560"/>
            <a:ext cx="74977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rbe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Расширение знаний учащихся по изучению темы « Метод математической индукции» в процессе выяснения вопросов делимости выражений на натуральные числ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Развитие речи, мышления и способности наблюдать и делать выводы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Picture 2" descr="C:\Documents and Settings\Admin\Рабочий стол\ИКТО\Рисунки\images.jpeg"/>
          <p:cNvPicPr/>
          <p:nvPr/>
        </p:nvPicPr>
        <p:blipFill>
          <a:blip r:embed="rId1"/>
          <a:stretch/>
        </p:blipFill>
        <p:spPr>
          <a:xfrm>
            <a:off x="1500120" y="4786200"/>
            <a:ext cx="1657440" cy="17049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C:\Documents and Settings\Admin\Рабочий стол\ИКТО\Рисунки\urok_m.jpg"/>
          <p:cNvPicPr/>
          <p:nvPr/>
        </p:nvPicPr>
        <p:blipFill>
          <a:blip r:embed="rId2"/>
          <a:stretch/>
        </p:blipFill>
        <p:spPr>
          <a:xfrm>
            <a:off x="7929720" y="0"/>
            <a:ext cx="121428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Метод математической индукции – один из наиболее эффективных методов доказательства математических гипотез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Например, с помощью этого метода можно доказывать различные утверждения, касающиеся делимости натуральных чисе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2" descr="C:\Documents and Settings\Admin\Рабочий стол\ИКТО\Рисунки\image0011.png"/>
          <p:cNvPicPr/>
          <p:nvPr/>
        </p:nvPicPr>
        <p:blipFill>
          <a:blip r:embed="rId1"/>
          <a:stretch/>
        </p:blipFill>
        <p:spPr>
          <a:xfrm>
            <a:off x="5929200" y="4962600"/>
            <a:ext cx="2000520" cy="17208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Admin\Рабочий стол\ИКТО\Рисунки\euclid-2.gif"/>
          <p:cNvPicPr/>
          <p:nvPr/>
        </p:nvPicPr>
        <p:blipFill>
          <a:blip r:embed="rId2"/>
          <a:stretch/>
        </p:blipFill>
        <p:spPr>
          <a:xfrm>
            <a:off x="1714680" y="142920"/>
            <a:ext cx="192852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7" descr="C:\Documents and Settings\Admin\Рабочий стол\ИКТО\Рисунки\vhqnkxedasnypq-hsldooke.jpg"/>
          <p:cNvPicPr/>
          <p:nvPr/>
        </p:nvPicPr>
        <p:blipFill>
          <a:blip r:embed="rId1"/>
          <a:stretch/>
        </p:blipFill>
        <p:spPr>
          <a:xfrm>
            <a:off x="0" y="5813280"/>
            <a:ext cx="1379520" cy="10447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3920" y="277920"/>
            <a:ext cx="747252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Задача 1: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928800" y="981000"/>
            <a:ext cx="80359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оказать, что сумма кубов трех последовательных натуральных чисел делится на 9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ам нужно доказать, чт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и любом натуральном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оверим прежде всего, справедливо ли утверждение при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=1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меем ,                               ,             , следовательно, при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=1 утверждение верно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едположим, что оно верно при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, т.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окажем, что тогда оно верно и при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+1. В самом деле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скольку каждое слагаемое полученной суммы делится на 9 (первое слагаемое – по предположению индукции, второе – как содержащее множитель 9), то и сумма делится на 9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лучаем, что утверждение верно при всех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4000680" y="1785960"/>
                <a:ext cx="27414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⋮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3"/>
              <p:cNvSpPr txBox="1"/>
              <p:nvPr/>
            </p:nvSpPr>
            <p:spPr>
              <a:xfrm>
                <a:off x="2000160" y="2786040"/>
                <a:ext cx="1511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4"/>
              <p:cNvSpPr txBox="1"/>
              <p:nvPr/>
            </p:nvSpPr>
            <p:spPr>
              <a:xfrm>
                <a:off x="3643200" y="2786040"/>
                <a:ext cx="574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⋮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5"/>
              <p:cNvSpPr txBox="1"/>
              <p:nvPr/>
            </p:nvSpPr>
            <p:spPr>
              <a:xfrm>
                <a:off x="5786280" y="3286080"/>
                <a:ext cx="23767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 </m:t>
                    </m:r>
                    <m:r>
                      <m:t xml:space="preserve">⋮</m:t>
                    </m:r>
                    <m:r>
                      <m:t xml:space="preserve"> 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6"/>
              <p:cNvSpPr txBox="1"/>
              <p:nvPr/>
            </p:nvSpPr>
            <p:spPr>
              <a:xfrm>
                <a:off x="1357200" y="4357800"/>
                <a:ext cx="6769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t xml:space="preserve">9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3" descr="C:\Documents and Settings\Admin\Рабочий стол\ИКТО\Рисунки\MathInitiatives.gif"/>
          <p:cNvPicPr/>
          <p:nvPr/>
        </p:nvPicPr>
        <p:blipFill>
          <a:blip r:embed="rId1"/>
          <a:stretch/>
        </p:blipFill>
        <p:spPr>
          <a:xfrm>
            <a:off x="7286760" y="214200"/>
            <a:ext cx="1712880" cy="136224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Задача 2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213920" y="1447560"/>
            <a:ext cx="7720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Доказать, что число   7</a:t>
            </a:r>
            <a:r>
              <a:rPr b="1" lang="en-US" sz="2200" spc="-1" strike="noStrike" baseline="30000">
                <a:solidFill>
                  <a:srgbClr val="000000"/>
                </a:solidFill>
                <a:latin typeface="Gill Sans MT"/>
              </a:rPr>
              <a:t>n</a:t>
            </a:r>
            <a:r>
              <a:rPr b="1" lang="ru-RU" sz="2200" spc="-1" strike="noStrike" baseline="30000">
                <a:solidFill>
                  <a:srgbClr val="000000"/>
                </a:solidFill>
                <a:latin typeface="Corbel"/>
              </a:rPr>
              <a:t>+1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+8</a:t>
            </a:r>
            <a:r>
              <a:rPr b="1" lang="ru-RU" sz="2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Gill Sans MT"/>
              </a:rPr>
              <a:t>n</a:t>
            </a:r>
            <a:r>
              <a:rPr b="1" lang="ru-RU" sz="2200" spc="-1" strike="noStrike" baseline="30000">
                <a:solidFill>
                  <a:srgbClr val="000000"/>
                </a:solidFill>
                <a:latin typeface="Corbel"/>
              </a:rPr>
              <a:t>-1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  делится на  19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orbel"/>
              </a:rPr>
              <a:t>Доказательство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)  если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=1    ,  то 7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+8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+57,   а   57 делится на   19.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)  предположим, что  утверждение верно при некотором натуральном    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, т.е. число    7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+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+8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делится на  19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окажем верность утверждения для 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+1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+1)+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+8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2(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+1)-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=7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+2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+8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+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=7*7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+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+64*8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=7(7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+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+8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+57*8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ак как каждое слагаемое полученной суммы делится на  19, то  и   7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+2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+8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+1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акже делится на  19.  Утверждение доказано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ывод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добные задачи на делимость натуральных чисел часто предлагаются на математических олимпиадах разного уровня. Использование метода математической индукции значительно упрощает решение таких задач. Значит с уверенностью можно сказать, что применение метода математической индукции необходим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7" name="Picture 2" descr="C:\Documents and Settings\Admin\Рабочий стол\ИКТО\Рисунки\MatemImena.jpg"/>
          <p:cNvPicPr/>
          <p:nvPr/>
        </p:nvPicPr>
        <p:blipFill>
          <a:blip r:embed="rId1"/>
          <a:stretch/>
        </p:blipFill>
        <p:spPr>
          <a:xfrm>
            <a:off x="4467240" y="4495680"/>
            <a:ext cx="46767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C:\Documents and Settings\Admin\Рабочий стол\ИКТО\Рисунки\Книги-и-цены-в-математической-задачке.jpg"/>
          <p:cNvPicPr/>
          <p:nvPr/>
        </p:nvPicPr>
        <p:blipFill>
          <a:blip r:embed="rId1"/>
          <a:stretch/>
        </p:blipFill>
        <p:spPr>
          <a:xfrm>
            <a:off x="7072200" y="0"/>
            <a:ext cx="1737000" cy="173664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Литература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213920" y="1447560"/>
            <a:ext cx="7720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учно – практический журнал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« Математика для школьников» №1, 2004г. М: ООО «Школьная пресса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.В. Стратилатов «Дополнительные главы по курсу математики» Факультативный курс для учащихся 9кл. М.: Просвещение, 1974г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5T09:36:22Z</dcterms:created>
  <dc:creator>Admin</dc:creator>
  <dc:description/>
  <dc:language>en-US</dc:language>
  <cp:lastModifiedBy>Admin</cp:lastModifiedBy>
  <dcterms:modified xsi:type="dcterms:W3CDTF">2011-05-15T14:37:09Z</dcterms:modified>
  <cp:revision>14</cp:revision>
  <dc:subject/>
  <dc:title>Слайд 1</dc:title>
</cp:coreProperties>
</file>